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png" ContentType="image/png"/>
  <Override PartName="/ppt/media/image8.wmf" ContentType="image/x-wmf"/>
  <Override PartName="/ppt/media/image7.png" ContentType="image/png"/>
  <Override PartName="/ppt/media/image10.jpeg" ContentType="image/jpeg"/>
  <Override PartName="/ppt/media/image9.wmf" ContentType="image/x-wmf"/>
  <Override PartName="/ppt/media/image6.gif" ContentType="image/gif"/>
  <Override PartName="/ppt/media/image5.jpeg" ContentType="image/jpeg"/>
  <Override PartName="/ppt/media/image21.wmf" ContentType="image/x-wmf"/>
  <Override PartName="/ppt/media/image20.jpeg" ContentType="image/jpeg"/>
  <Override PartName="/ppt/media/image18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2F7A-EA44-407F-B418-F786A3C5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0327-64BF-4889-BE2B-E8696571B5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BF4-7AD4-4D9C-9C6E-75B97BC9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90C-5285-42DF-9505-D21EF087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32E-8463-44F4-B561-CDB5BA11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F61-ECA5-4889-A8C5-3D3726A1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C0B-F88F-49E6-BA51-32D259A1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DE6-98F5-47A8-9A43-E0429C72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18B-A9D2-453E-98D9-7C7714DB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9D3-8F86-426D-8CBA-717C224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E94-17D1-4D8C-BCC3-42352CA5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3B6-4EFB-48D1-A308-DF2E391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5A1-239B-4051-8325-9C40EC0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2DF-A468-4881-AC50-272A53D3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9BF8-0BEA-45E7-85CA-878A8B453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nergy%20Story%20Review.flipchar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28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438280"/>
            <a:ext cx="7467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iz and Energy Story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ing Motion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fornian FB"/>
              </a:rPr>
              <a:t>What is moti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449800" cy="3353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5029200" cy="5029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5029200" cy="5029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2280" y="3733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rcRect l="0" t="28570" r="0" b="14291"/>
          <a:stretch/>
        </p:blipFill>
        <p:spPr>
          <a:xfrm>
            <a:off x="228600" y="3657600"/>
            <a:ext cx="1905120" cy="108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447920" y="4572000"/>
            <a:ext cx="144756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228600" y="5668920"/>
            <a:ext cx="1827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523880" y="-638280"/>
            <a:ext cx="12191760" cy="813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83800">
            <a:off x="1066680" y="2895120"/>
            <a:ext cx="43434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3749040" y="3063240"/>
            <a:ext cx="4617360" cy="4617360"/>
            <a:chOff x="3749040" y="3063240"/>
            <a:chExt cx="4617360" cy="461736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 rot="224400">
              <a:off x="3885840" y="320004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 rot="224400">
              <a:off x="5204520" y="5065200"/>
              <a:ext cx="679320" cy="4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22109E-006 L -0.59583 0.79371 E">
                                      <p:cBhvr>
                                        <p:cTn id="6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n is an object in mo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bject is in motion if it changes position relative to a reference poi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reference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495680"/>
            <a:ext cx="8686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 chosen to compare distances from (assume it is stationary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fornian FB"/>
              </a:rPr>
              <a:t>What is speed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449800" cy="3353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1523880"/>
            <a:ext cx="4133880" cy="299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flipH="1">
            <a:off x="151920" y="48942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flipH="1">
            <a:off x="151920" y="51228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flipH="1">
            <a:off x="151920" y="5486400"/>
            <a:ext cx="12193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1878E-006 L 0.84167 -0.00116 E">
                                      <p:cBhvr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994 L 0.84167 0.00879 E">
                                      <p:cBhvr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1878E-006 L 0.84167 -0.00116 E">
                                      <p:cBhvr>
                                        <p:cTn id="78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spe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peed is the distance traveled by an object in a given amount of ti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do you calculate spe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peed =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0666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21016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25880" y="2146320"/>
            <a:ext cx="44197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12408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10 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= 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1972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5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= 4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6386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 = 10 met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= 1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3526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468648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28600" y="590544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fornian FB"/>
              </a:rPr>
              <a:t>Is speed a valuable measureme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449800" cy="3353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4167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veloci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Velocity is the speed and direction of an object’s moti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90880" y="4710600"/>
            <a:ext cx="8571960" cy="1951920"/>
            <a:chOff x="290880" y="4710600"/>
            <a:chExt cx="8571960" cy="1951920"/>
          </a:xfrm>
        </p:grpSpPr>
        <p:grpSp>
          <p:nvGrpSpPr>
            <p:cNvPr id="119" name=""/>
            <p:cNvGrpSpPr/>
            <p:nvPr/>
          </p:nvGrpSpPr>
          <p:grpSpPr>
            <a:xfrm>
              <a:off x="290880" y="4710600"/>
              <a:ext cx="8548200" cy="1951920"/>
              <a:chOff x="290880" y="4710600"/>
              <a:chExt cx="8548200" cy="195192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"/>
              <a:stretch/>
            </p:blipFill>
            <p:spPr>
              <a:xfrm rot="370200">
                <a:off x="380880" y="4800600"/>
                <a:ext cx="1771920" cy="17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514600" y="5029200"/>
                <a:ext cx="63244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Let’s sing…                        </a:t>
                </a:r>
                <a:r>
                  <a:rPr b="1" i="1" lang="en-US" sz="3200" spc="-1" strike="noStrike">
                    <a:solidFill>
                      <a:srgbClr val="ffffff"/>
                    </a:solidFill>
                    <a:latin typeface="Arial"/>
                  </a:rPr>
                  <a:t>“Speed and Direction”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                by They Might Be Giant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7543800" y="5181480"/>
              <a:ext cx="13190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3"/>
          <a:srcRect l="46878" t="14998" r="45000" b="70003"/>
          <a:stretch/>
        </p:blipFill>
        <p:spPr>
          <a:xfrm>
            <a:off x="7848720" y="76320"/>
            <a:ext cx="1189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Quest w/ Motion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LabQues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motion sensor – DIGITAL 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to “large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measuring using meter to compare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i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ing a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peed of the SOLAR 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95288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on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motion?  How do you know an object is in mo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you in motion?  How do you know?  How about a skyd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you ever been on a bus and thought you started moving only to realize the bus next to you was actually going in re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BJECT IS IN MOTION WHEN IT CHANGES THE DISTANCE FROM A REFERENC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peed?  How can you determine how fast or slow something is going?  What do you need to know to determine an object’s 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 THE DISTANCE TRAVELED BY AN OBJECT IN A GIVEN AMOUNT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CAN BE CALCULATED USING THE FORMULA: S = D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calculation practic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= 10 meters, time = 10 seconds, Speed = 1 meter/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= 5 meters, time = 4 seconds, speed = 1.25 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= 10 meters, time = 15 seconds, speed = 0.66 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peed a valuable measurement?  Thief getaway examp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is good to know, but speed and direction together is 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IS THE SPEED AND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Speed and Velocity”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Car Speed Calculation if time and weather per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440" y="12193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escribing Motion Homework Workshe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 FROM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s an object in mo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a reference poi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you calculate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velo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0" y="3619440"/>
            <a:ext cx="9080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2 moving objects you saw on your way home from school and describe the reference point you used to confirm it was in mo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le the statements below that identify a speed of an object and underline the one’s indicating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miles per hour          60 meters per second to the east          2 cm/s forward          30 feet per minut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 the speed of the objects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A travels 100 meters in 50 seco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B travels 200 centimeters in 30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= 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Speed = 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429000"/>
            <a:ext cx="8915400" cy="3429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775800"/>
            <a:ext cx="61722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ENERGY STORY &amp; SOURCE ASSESSMENT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320" y="127080"/>
            <a:ext cx="2666520" cy="482400"/>
            <a:chOff x="76320" y="127080"/>
            <a:chExt cx="2666520" cy="4824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76320" y="127080"/>
              <a:ext cx="61560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707040" y="185400"/>
              <a:ext cx="2035800" cy="38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rcRect l="16876" t="14002" r="73753" b="70003"/>
          <a:stretch/>
        </p:blipFill>
        <p:spPr>
          <a:xfrm>
            <a:off x="380880" y="68580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747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lternative Energy vs. Fossil Fu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529080"/>
            <a:ext cx="41911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eener Energy Sour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ee Source of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gh Su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gh Set-up Co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orage and Transpor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t as Efficient as Conventional Energy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3529080"/>
            <a:ext cx="41911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asy to 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bundant (for n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wer Cost than Altern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vide fuel fo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n-Renew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armful to Environment (acid rain, mining, spi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ngerous to Obtain (mi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Story &amp; Source Assess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ring Rub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 POINTS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use of energy sour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1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flowchart accurac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identification of energy types/kin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identification of energy for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identification of transfer/transform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ource advantages/disadvantag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out of 1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rcRect l="16876" t="14002" r="73753" b="70003"/>
          <a:stretch/>
        </p:blipFill>
        <p:spPr>
          <a:xfrm>
            <a:off x="76320" y="472428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09680" y="4876920"/>
            <a:ext cx="6324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ortant Guidelin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Correc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ing Energy Story &amp; Source Assessment Sco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rrections during your own time (lunch, homeroom, dismis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n computer and open your group’s energy story assignment that you sa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File” and then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rename the fil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Story Redo 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____.  Save to your “my documents” f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rrections and improvements.  Be thoughtful and careful as you make your changes…you are on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ed to resubmit 1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rent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only when you are done with your corrections and staple to original when you turn it in the make-up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nergy Story &amp; Source Assess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Review &amp;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Motion Homework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eed to know in order to calculate sp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AF3479CF-2904-40D6-8E85-D73402F82E72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when an object is in 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speed of an object in 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he difference between speed and velo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Question 19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position-time and acceleration-time graphs tell you about mo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&amp;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h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Bowling ball hitting bowling p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3720" indent="-5137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will va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 FROM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s an object in mo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a reference poi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you calculate spe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veloc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0" y="3619440"/>
            <a:ext cx="9080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2 moving objects you saw on your way home from school and describe the reference point you used to confirm it was in mo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le the statements below that identify a speed of an object and underline the one’s indicating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miles per hour          60 meters per second to the east          2 cm/s forward          30 feet per minut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 the speed of the objects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A travels 100 meters in 50 seco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 B travels 200 centimeters in 30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 = 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Speed = 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2:13Z</dcterms:created>
  <dc:creator>Sarah Alexander</dc:creator>
  <dc:description/>
  <dc:language>en-US</dc:language>
  <cp:lastModifiedBy>Sarah Alexander</cp:lastModifiedBy>
  <dcterms:modified xsi:type="dcterms:W3CDTF">2010-04-28T18:22:39Z</dcterms:modified>
  <cp:revision>1</cp:revision>
  <dc:subject/>
  <dc:title>Slide 1</dc:title>
</cp:coreProperties>
</file>